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AB8-0FC6-48C5-8E39-BAF2568D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AC0-96E1-45BD-89DB-4DE7676A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7D1-5484-4029-B442-9EA890C1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9EF-48C8-4ADF-BF01-A108583C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A12-6766-40D4-904A-52221FC2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7E2-C86E-48EA-9257-94F41A3B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349-EFDC-452C-BCEF-E194ED0F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160-D380-4C6C-A6DC-91B3D31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087-3EC3-43E0-A31C-5B36AADD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CE6-E376-4A5A-90CE-B2875301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33E-91B4-44EF-BB4F-463A4C5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14A-8E5A-4C83-BA78-E3A9ADA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C017-7E33-4CB9-A355-0E2E038A8F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229600" cy="1390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84360" y="1557360"/>
            <a:ext cx="7561080" cy="3400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y w dniu 7.11.1918 roku w Lublinie z inicjatywy ugrupowań lewicowych: Polskiej Partii Socjalistycznej, Polskiej Partii Socjaldemokratycznej, części Polskiego Stronnictwa Ludowego „Wyzwolen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Na czele TRL stanął Ignacy Daszyń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Rząd nie był akceptowany przez pozostałe ugrupowania polityczne, niechętne ideom lewicowym a jego wpływy ograniczały się do terenu Lub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9:24Z</dcterms:created>
  <dc:creator>rena</dc:creator>
  <dc:description/>
  <dc:language>en-US</dc:language>
  <cp:lastModifiedBy>IB</cp:lastModifiedBy>
  <dcterms:modified xsi:type="dcterms:W3CDTF">2013-03-14T17:27:33Z</dcterms:modified>
  <cp:revision>6</cp:revision>
  <dc:subject/>
  <dc:title>PowerPoint Presentation</dc:title>
</cp:coreProperties>
</file>